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23.jpeg" ContentType="image/jpeg"/>
  <Override PartName="/ppt/media/image21.gif" ContentType="image/gif"/>
  <Override PartName="/ppt/media/image19.png" ContentType="image/png"/>
  <Override PartName="/ppt/media/image20.gif" ContentType="image/gif"/>
  <Override PartName="/ppt/media/image18.gif" ContentType="image/gif"/>
  <Override PartName="/ppt/media/image17.jpeg" ContentType="image/jpeg"/>
  <Override PartName="/ppt/media/image14.gif" ContentType="image/gif"/>
  <Override PartName="/ppt/media/image1.jpeg" ContentType="image/jpeg"/>
  <Override PartName="/ppt/media/image7.jpeg" ContentType="image/jpeg"/>
  <Override PartName="/ppt/media/image22.gif" ContentType="image/gif"/>
  <Override PartName="/ppt/media/image4.jpeg" ContentType="image/jpeg"/>
  <Override PartName="/ppt/media/image13.gif" ContentType="image/gif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D90-ACF2-4BC0-BBB1-3CFA62F3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1D6-7573-4D0D-968F-2BE895A9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2EB-6245-4388-BADB-0E7A75A7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369-E1CF-41BA-A3F9-64ACA82D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2C69-72D9-4F94-B293-43F4250E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FF62-63C2-4AE9-BC9A-EC166457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0F4E-67A8-4217-AD6E-E6D82FA4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0ED2-484D-4075-B577-BCB6F57D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2B5D-E7EE-4310-9563-64189C5F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2CD9-30B8-435F-B4B8-C8945387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9AA6-8D1B-4220-97D8-20829033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CD9-8128-414D-8851-8B3A7A7A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5650-F3CF-4E37-ADE7-7B441CD8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CD8A-1363-4F08-B7CA-55385E81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F1FA-DE60-48FD-B8F4-528C0ADF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0250-DCDA-4A4F-A41A-375A6F7B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EA1C-3174-46D0-A4FA-B7C2F32D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A4CF-5D65-477D-A348-BCFA054A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7B6AF-D2D5-4D3A-8EB9-E34A9F5F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320E-736E-4EBB-B561-32E476A9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5590A-ACDD-470E-8F8F-424EF7E1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C293-C6F4-4E79-9FD7-E472DC8B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086-8E5C-4B87-BC4C-99C3BEC3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C30CB-9A10-4341-BDE3-9F0332E9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FCCB-3857-47CC-9AED-E57E6520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1DD3F-E265-4807-8236-18041C88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734B-4312-44F3-BE1D-021D53FB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9C23-10DB-45B1-BDF7-B7B25405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9305-0361-44DE-9F7C-4879BBA8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41F2-E3E1-4223-B3CA-77F986A0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D44E1-A665-4F72-B467-DB5B08D8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5D0E2-05D8-44F9-B8EE-259745A2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76F04-A153-46EF-9210-E45671E4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F0F-2BA4-44A5-934B-56EFCBC2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B81C5-4D8E-4605-8440-94128B84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36FC-799D-4E93-A465-30797F38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E3214-C869-4ED2-B3A7-72D874DC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2606F-D472-4519-88BE-DFA06A4D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016A9-CE92-446F-9D16-23868495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68BDF-48A8-4BD3-945C-FB5783BB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DC65-DF8E-491C-B061-6FDFBF6C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12C34-AC17-4C40-A172-2FB21865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7A16E-0086-416A-8828-61620BE9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1FA-2F22-4CA3-B95E-B46E8D3C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096-C191-4591-8454-C7C84B7E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38A-98AC-4978-80D8-73D0A115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0E2-4AF6-47B8-BA29-FC689CA1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203-0DE1-44F9-A997-64B4FF73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0472F7-1556-426B-8B44-FE53853809F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14FE0C-955D-4331-8AFA-54AAE7FE329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FA21D3-7145-46A4-B43D-69843CDD9FA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0A589B-7913-4D31-A8BF-34958EF7E48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одержимое 3" descr="image.gif"/>
          <p:cNvPicPr/>
          <p:nvPr/>
        </p:nvPicPr>
        <p:blipFill>
          <a:blip r:embed="rId1"/>
          <a:stretch/>
        </p:blipFill>
        <p:spPr>
          <a:xfrm>
            <a:off x="1785960" y="1643040"/>
            <a:ext cx="5880960" cy="28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Informal Roman"/>
              </a:rPr>
              <a:t>Guess a riddle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холм подняться я решил. Холм по-английски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одержимое 6"/>
          <p:cNvSpPr/>
          <p:nvPr/>
        </p:nvSpPr>
        <p:spPr>
          <a:xfrm>
            <a:off x="457200" y="2500200"/>
            <a:ext cx="4039920" cy="3164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92d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ился в поле. Все болит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ле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eeece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3">
                    <a:lumMod val="50000"/>
                  </a:schemeClr>
                </a:solidFill>
                <a:latin typeface="Arial Black"/>
              </a:rPr>
              <a:t>Make up sentences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192888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a lot of/ hills/ there are/ in the/ green/ country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/ a long/ your/ there is/ town/ riv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4">
                    <a:lumMod val="75000"/>
                  </a:schemeClr>
                </a:solidFill>
                <a:latin typeface="Chiller"/>
              </a:rPr>
              <a:t>Divide the descriptions into 2 columns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Содержимое 3"/>
          <p:cNvGraphicFramePr/>
          <p:nvPr/>
        </p:nvGraphicFramePr>
        <p:xfrm>
          <a:off x="457200" y="1600200"/>
          <a:ext cx="8229240" cy="197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714240" y="4357800"/>
            <a:ext cx="3857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3790800"/>
            <a:ext cx="385740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It is big. It is noisy. You can see a lot of cars, buses and tram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4933800"/>
            <a:ext cx="400032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It is quiet. It is peaceful. It is green. You can see a lot of apple trees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071960" y="3790800"/>
            <a:ext cx="47858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The streets are wide and long. There are many people in the streets. They are always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714920" y="4786200"/>
            <a:ext cx="4214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14880" y="4862520"/>
            <a:ext cx="45716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There are a lot of buildings. The houses are big and tall. You can see many bridg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43120" y="5861160"/>
            <a:ext cx="47858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The streets are small. There are many animal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7407E-006 L -2.77778E-006 -0.30463 E">
                                      <p:cBhvr>
                                        <p:cTn id="1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-0.03032 L 0.39184 -0.46088 E">
                                      <p:cBhvr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42048 -0.18912 E">
                                      <p:cBhvr>
                                        <p:cTn id="17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-0.45504 -0.24051 E">
                                      <p:cBhvr>
                                        <p:cTn id="1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 -0.03056 L 0.17344 -0.38473 E">
                                      <p:cBhvr>
                                        <p:cTn id="1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Mark the correct sentence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14280"/>
            <a:ext cx="777204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cow in the country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chemeClr val="accent1">
                    <a:lumMod val="50000"/>
                  </a:schemeClr>
                </a:solidFill>
                <a:latin typeface="Juice ITC"/>
              </a:rPr>
              <a:t>Complete the sentences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1571760"/>
            <a:ext cx="7772040" cy="39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(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ве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in the countr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of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рыбы) 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the river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garden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shop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2">
                    <a:lumMod val="75000"/>
                  </a:schemeClr>
                </a:solidFill>
                <a:latin typeface="Corbel"/>
              </a:rPr>
              <a:t>Mark the singular noun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2000160"/>
            <a:ext cx="777204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n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9862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6">
                    <a:lumMod val="50000"/>
                  </a:schemeClr>
                </a:solidFill>
                <a:latin typeface="Chiller"/>
              </a:rPr>
              <a:t>Which word is spelt in the wrong way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32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ver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ry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ve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not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ous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it because …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E:\Английский язык\Фотографии\мультгерои\image28.gif"/>
          <p:cNvPicPr/>
          <p:nvPr/>
        </p:nvPicPr>
        <p:blipFill>
          <a:blip r:embed="rId1"/>
          <a:stretch/>
        </p:blipFill>
        <p:spPr>
          <a:xfrm>
            <a:off x="4643280" y="42876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E:\Английский язык\Фотографии\мультгерои\нюша 2.png"/>
          <p:cNvPicPr/>
          <p:nvPr/>
        </p:nvPicPr>
        <p:blipFill>
          <a:blip r:embed="rId2"/>
          <a:stretch/>
        </p:blipFill>
        <p:spPr>
          <a:xfrm>
            <a:off x="4857840" y="2214720"/>
            <a:ext cx="3936240" cy="4214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E:\Английский язык\Фотографии\мультгерои\матроскин.gif"/>
          <p:cNvPicPr/>
          <p:nvPr/>
        </p:nvPicPr>
        <p:blipFill>
          <a:blip r:embed="rId3"/>
          <a:stretch/>
        </p:blipFill>
        <p:spPr>
          <a:xfrm>
            <a:off x="4714920" y="928800"/>
            <a:ext cx="3214440" cy="321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:\Английский язык\Фотографии\мультгерои\parrot kesha.gif"/>
          <p:cNvPicPr/>
          <p:nvPr/>
        </p:nvPicPr>
        <p:blipFill>
          <a:blip r:embed="rId4"/>
          <a:stretch/>
        </p:blipFill>
        <p:spPr>
          <a:xfrm>
            <a:off x="5000760" y="2286000"/>
            <a:ext cx="34239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одержимое 3" descr="thank_you_011.gif"/>
          <p:cNvPicPr/>
          <p:nvPr/>
        </p:nvPicPr>
        <p:blipFill>
          <a:blip r:embed="rId1"/>
          <a:stretch/>
        </p:blipFill>
        <p:spPr>
          <a:xfrm>
            <a:off x="2143080" y="1285920"/>
            <a:ext cx="4971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3" descr="good bye 13.jpg"/>
          <p:cNvPicPr/>
          <p:nvPr/>
        </p:nvPicPr>
        <p:blipFill>
          <a:blip r:embed="rId1"/>
          <a:stretch/>
        </p:blipFill>
        <p:spPr>
          <a:xfrm>
            <a:off x="2143080" y="928800"/>
            <a:ext cx="4643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Country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nd</a:t>
            </a: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chemeClr val="accent5">
                    <a:lumMod val="50000"/>
                  </a:schemeClr>
                </a:solidFill>
                <a:latin typeface="Cooper Black"/>
              </a:rPr>
              <a:t>Cit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3" descr="city_country.jpg"/>
          <p:cNvPicPr/>
          <p:nvPr/>
        </p:nvPicPr>
        <p:blipFill>
          <a:blip r:embed="rId1"/>
          <a:stretch/>
        </p:blipFill>
        <p:spPr>
          <a:xfrm>
            <a:off x="1523880" y="1720080"/>
            <a:ext cx="609552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rgbClr val="17375e"/>
                </a:solidFill>
                <a:latin typeface="Chiller"/>
              </a:rPr>
              <a:t>Choose the appropriate word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10717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ouses in the city are very …. 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small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angr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wind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icture 2"/>
          <p:cNvSpPr/>
          <p:nvPr/>
        </p:nvSpPr>
        <p:spPr>
          <a:xfrm>
            <a:off x="428760" y="3429000"/>
            <a:ext cx="3428640" cy="21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Which words are connected with </a:t>
            </a:r>
            <a:r>
              <a:rPr b="1" lang="en-US" sz="4400" spc="-1" strike="noStrike" cap="all">
                <a:solidFill>
                  <a:schemeClr val="accent1">
                    <a:lumMod val="75000"/>
                  </a:schemeClr>
                </a:solidFill>
                <a:latin typeface="Chiller"/>
              </a:rPr>
              <a:t>a city</a:t>
            </a: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42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dg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w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icture 2"/>
          <p:cNvSpPr/>
          <p:nvPr/>
        </p:nvSpPr>
        <p:spPr>
          <a:xfrm>
            <a:off x="428760" y="3500280"/>
            <a:ext cx="3571560" cy="2041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eeece1">
                <a:lumMod val="2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70c0"/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 как здесь красиво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ща там, здесь речка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одержимое 6"/>
          <p:cNvSpPr/>
          <p:nvPr/>
        </p:nvSpPr>
        <p:spPr>
          <a:xfrm>
            <a:off x="457200" y="2635560"/>
            <a:ext cx="4039920" cy="3029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080" y="1285920"/>
            <a:ext cx="4041360" cy="88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знали, сообщаю вам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ферма – это …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одержимое 7"/>
          <p:cNvSpPr/>
          <p:nvPr/>
        </p:nvSpPr>
        <p:spPr>
          <a:xfrm>
            <a:off x="4714920" y="2286000"/>
            <a:ext cx="390348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8064a2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030a0"/>
                </a:solidFill>
                <a:latin typeface="Arial Rounded MT Bold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хочет всем помочь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одержимое 6"/>
          <p:cNvSpPr/>
          <p:nvPr/>
        </p:nvSpPr>
        <p:spPr>
          <a:xfrm>
            <a:off x="714240" y="2500200"/>
            <a:ext cx="3357360" cy="3873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 наш город посетите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 это будет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7"/>
          <p:cNvSpPr/>
          <p:nvPr/>
        </p:nvSpPr>
        <p:spPr>
          <a:xfrm>
            <a:off x="4572000" y="271476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4f81bd">
                <a:lumMod val="40000"/>
                <a:lumOff val="6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a452a"/>
                </a:solidFill>
                <a:latin typeface="Berlin Sans FB Demi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еревню ехать очень рад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евня –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6" descr="8ZX4D00Z.jpg"/>
          <p:cNvPicPr/>
          <p:nvPr/>
        </p:nvPicPr>
        <p:blipFill>
          <a:blip r:embed="rId1"/>
          <a:stretch/>
        </p:blipFill>
        <p:spPr>
          <a:xfrm>
            <a:off x="427320" y="2500200"/>
            <a:ext cx="4073040" cy="3278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99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рень в саду цветет. Прохлада. Сад по-английски – это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ый вам задам вопро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ак назвали лошадь?» -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одержимое 6" descr="905478307.gif"/>
          <p:cNvPicPr/>
          <p:nvPr/>
        </p:nvPicPr>
        <p:blipFill>
          <a:blip r:embed="rId1"/>
          <a:stretch/>
        </p:blipFill>
        <p:spPr>
          <a:xfrm>
            <a:off x="457200" y="2594520"/>
            <a:ext cx="4039920" cy="3111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вою Буренку называю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ушка – коровушка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7" descr="1944.gif"/>
          <p:cNvPicPr/>
          <p:nvPr/>
        </p:nvPicPr>
        <p:blipFill>
          <a:blip r:embed="rId2"/>
          <a:stretch/>
        </p:blipFill>
        <p:spPr>
          <a:xfrm>
            <a:off x="5000760" y="257184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Harlow Solid Italic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рисуешь доченька?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очка, смотри! Я рисую дерево, по – английски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6" descr="tree2.gif"/>
          <p:cNvPicPr/>
          <p:nvPr/>
        </p:nvPicPr>
        <p:blipFill>
          <a:blip r:embed="rId1"/>
          <a:stretch/>
        </p:blipFill>
        <p:spPr>
          <a:xfrm>
            <a:off x="642960" y="2286000"/>
            <a:ext cx="3492000" cy="3951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у тропинки стадо пас. Тропинка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одержимое 7"/>
          <p:cNvSpPr/>
          <p:nvPr/>
        </p:nvSpPr>
        <p:spPr>
          <a:xfrm>
            <a:off x="5214960" y="2286000"/>
            <a:ext cx="264276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9bbb59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  <Words>45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3-04-29T21:30:40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